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9–2011 National Academy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BE01-F6D9-4AEF-8864-5AC552DF29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3F35-9AAB-47E2-9F49-DD8697359D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91F8-C317-4641-B179-5266039F3D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B96C-2602-4BC1-A700-CFBF58E205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EFF3-9636-4C6C-8862-C5AE3E2ECB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28AD-A45F-4C8D-9429-9673F56FCF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C95D-F546-44BB-BD2F-44532241FE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7A10-B691-4A80-8423-3AAF448C97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AFD3-922B-4FD9-BEC1-FB0F7CF36E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F2F7-B4D8-4079-A567-F587EBEDE5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3AAD-1A0A-4F09-AE14-D44432342A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1BDB-0153-4516-A04F-1678EC3476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F5D7-F216-4C59-AABC-13A293FDC4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C992-196E-48E3-9B9A-952EAA6237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33520" y="4191120"/>
            <a:ext cx="5790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BAF9-65AC-4A65-B3D9-6A24842BB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8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0F60-1974-4FA4-AF4D-7AB1A5473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EC6C-F6D9-482F-B59A-5E6AA3A25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AD16-F338-4647-BA72-DCF033A5C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-7668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F53C-9987-4212-BF91-D4F5B92E4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78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B723-26C0-4F16-8485-A92860245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2AA7-318F-4C48-AC56-3A8328C33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1E1B-0C5C-4506-85CA-BF3078FFB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-7668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718B-A6A2-44AF-818C-D2FC97847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744D-63D3-418D-BEAF-8714C0EBC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0706-64DE-4A02-BC5B-05A61ACF6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AB33-48C3-4730-92E6-7D2B57357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b5a9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2b5a9c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2b5a9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2b5a9c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1718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b5a9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1715-B392-4656-A2A5-E314A255FFA1}" type="slidenum">
              <a:rPr b="0" lang="en-US" sz="1000" spc="-1" strike="noStrike">
                <a:solidFill>
                  <a:srgbClr val="2b5a9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1" descr="PPT footer"/>
          <p:cNvPicPr/>
          <p:nvPr/>
        </p:nvPicPr>
        <p:blipFill>
          <a:blip r:embed="rId2"/>
          <a:stretch/>
        </p:blipFill>
        <p:spPr>
          <a:xfrm>
            <a:off x="0" y="6583320"/>
            <a:ext cx="9144000" cy="274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914400"/>
            <a:ext cx="9144000" cy="219240"/>
          </a:xfrm>
          <a:prstGeom prst="rect">
            <a:avLst/>
          </a:prstGeom>
          <a:gradFill rotWithShape="0">
            <a:gsLst>
              <a:gs pos="0">
                <a:srgbClr val="335c9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PPT footer"/>
          <p:cNvPicPr/>
          <p:nvPr/>
        </p:nvPicPr>
        <p:blipFill>
          <a:blip r:embed="rId2"/>
          <a:stretch/>
        </p:blipFill>
        <p:spPr>
          <a:xfrm>
            <a:off x="0" y="6583320"/>
            <a:ext cx="9144000" cy="2746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0" y="1676520"/>
            <a:ext cx="9144000" cy="777600"/>
          </a:xfrm>
          <a:prstGeom prst="rect">
            <a:avLst/>
          </a:prstGeom>
          <a:gradFill rotWithShape="0">
            <a:gsLst>
              <a:gs pos="0">
                <a:srgbClr val="335c9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1240" y="6653160"/>
            <a:ext cx="3557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8–2011 National Academy Foundation. All rights reserved.</a:t>
            </a:r>
            <a:endParaRPr b="0" i="1" lang="en-US" sz="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b5a9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2b5a9c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2b5a9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2b5a9c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432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nit 4, Lesson 9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Keeping You and Your Computer Safe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762120" y="380880"/>
            <a:ext cx="7391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OIT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uter Systems </a:t>
            </a:r>
            <a:br>
              <a:rPr sz="3200"/>
            </a:br>
            <a:endParaRPr b="0" i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5760" y="0"/>
            <a:ext cx="874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You can minimize the risk of ESD damag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5102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tore and ship computer components in antistatic bag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ear an antistatic wrist strap when handling components.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Remove components from the bag slowly.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aintain humidity levels between 70% and 90%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ver touch the electrical contacts on component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27" name="Picture 6" descr="C:\Users\Lee\Desktop\Pearson\July\July9\sys9\images\image12.jpg"/>
          <p:cNvPicPr/>
          <p:nvPr/>
        </p:nvPicPr>
        <p:blipFill>
          <a:blip r:embed="rId1"/>
          <a:stretch/>
        </p:blipFill>
        <p:spPr>
          <a:xfrm>
            <a:off x="5756400" y="1844640"/>
            <a:ext cx="2943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Damage from EMI is recoverabl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9000" y="1255680"/>
            <a:ext cx="50068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Common sources of EMI: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High-speed digital circuit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Radio transmitter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Cordless telephones and pagers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ower line intercom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lectric motor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luorescent light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twork cabling too close to other device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lectric space heater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03360" y="5689440"/>
            <a:ext cx="4011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s it a good idea to use your cell phone in a data center?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1" name="Picture 7" descr="C:\Users\Lee\Desktop\Pearson\July\July9\sys9\images\image13.jpg"/>
          <p:cNvPicPr/>
          <p:nvPr/>
        </p:nvPicPr>
        <p:blipFill>
          <a:blip r:embed="rId1"/>
          <a:stretch/>
        </p:blipFill>
        <p:spPr>
          <a:xfrm>
            <a:off x="5251320" y="1467000"/>
            <a:ext cx="3372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reventing EMI is simpl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30372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on’t put the computer close to a motor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Keep computers and cables away from magnets or transformer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15880" y="4429080"/>
            <a:ext cx="33163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an you think of things that have magnet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r transformers?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5" name="Picture 7" descr="C:\Users\Lee\Desktop\Pearson\July\July9\sys9\images\image14.jpg"/>
          <p:cNvPicPr/>
          <p:nvPr/>
        </p:nvPicPr>
        <p:blipFill>
          <a:blip r:embed="rId1"/>
          <a:stretch/>
        </p:blipFill>
        <p:spPr>
          <a:xfrm>
            <a:off x="4613400" y="1420920"/>
            <a:ext cx="40384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10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lways follow best practices for safety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699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 computer’s safety documentation contains more information: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tup precaution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afe cleaning instruction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ire hazards during usage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lectrocution hazards during usage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Refer to the documentation for electrical specification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38" name="Picture 0" descr="C:\Users\Lee\Desktop\Pearson\July\July9\sys9\images\image15.jpg"/>
          <p:cNvPicPr/>
          <p:nvPr/>
        </p:nvPicPr>
        <p:blipFill>
          <a:blip r:embed="rId1"/>
          <a:stretch/>
        </p:blipFill>
        <p:spPr>
          <a:xfrm>
            <a:off x="5056200" y="1378080"/>
            <a:ext cx="3762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7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orking with computers is relatively saf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00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ake precautions to minimize risk. 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Understand and follow safety procedure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onitors and power supplies are the most hazardous device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93" name="Picture 1024" descr="C:\Users\Lee\Desktop\Pearson\July\July9\sys9\images\image1.jpg"/>
          <p:cNvPicPr/>
          <p:nvPr/>
        </p:nvPicPr>
        <p:blipFill>
          <a:blip r:embed="rId1"/>
          <a:stretch/>
        </p:blipFill>
        <p:spPr>
          <a:xfrm>
            <a:off x="3492360" y="1479600"/>
            <a:ext cx="54104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ESD can be shocking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93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SD is the rapid flow of static electricity from one object to another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nergy is released in the form of a spark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SD is costly and dangerou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SD can interrupt power to a system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96" name="Picture 6" descr="C:\Users\Lee\Desktop\Pearson\July\July9\sys9\images\image2.jpg"/>
          <p:cNvPicPr/>
          <p:nvPr/>
        </p:nvPicPr>
        <p:blipFill>
          <a:blip r:embed="rId1"/>
          <a:stretch/>
        </p:blipFill>
        <p:spPr>
          <a:xfrm>
            <a:off x="3506760" y="1494000"/>
            <a:ext cx="541008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rotect yourself from ESD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80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on’t become a conductor of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lectricity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amage to components can occur at low voltage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49280" y="4983120"/>
            <a:ext cx="42829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an you remember a time when you felt an electric shock? What do you think caused it?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0" name="Picture 7" descr="C:\Users\Lee\Desktop\Pearson\July\July9\sys9\images\image3.jpg"/>
          <p:cNvPicPr/>
          <p:nvPr/>
        </p:nvPicPr>
        <p:blipFill>
          <a:blip r:embed="rId1"/>
          <a:stretch/>
        </p:blipFill>
        <p:spPr>
          <a:xfrm>
            <a:off x="5097600" y="1258920"/>
            <a:ext cx="38289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570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Ground yourself for safety’s sak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6120" y="1211040"/>
            <a:ext cx="5151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Ground is neutral: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ot positively or negatively charged with electricity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nnected to the earth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Grounding creates: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n easy path for electrical current to follow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he same electrical potential between two objects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e best sources for ground: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C outlet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etal chassis of a PC that is connected to a known groun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580000" y="3305160"/>
            <a:ext cx="3230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at do you think this universal symbol for ground is based on?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4" name="Picture 7" descr="C:\Users\Lee\Desktop\Pearson\July\July9\sys9\images\image4.jpg"/>
          <p:cNvPicPr/>
          <p:nvPr/>
        </p:nvPicPr>
        <p:blipFill>
          <a:blip r:embed="rId1"/>
          <a:stretch/>
        </p:blipFill>
        <p:spPr>
          <a:xfrm>
            <a:off x="6084720" y="1623960"/>
            <a:ext cx="2286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ear an antistatic wrist strap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2181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Ground yourself by wearing an antistatic wrist strap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243360" indent="-24336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ttach the clip to a good ground source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243360" indent="-24336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ver wear an antistatic wrist strap when working with monitors or power supplie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243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503280" y="5689440"/>
            <a:ext cx="81532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y do you think you should never wear an antistatic wrist strap when working with monitors or power supplies?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8" name="Picture 8" descr="C:\Users\Lee\Desktop\Pearson\July\July9\sys9\images\image5.jpg"/>
          <p:cNvPicPr/>
          <p:nvPr/>
        </p:nvPicPr>
        <p:blipFill>
          <a:blip r:embed="rId1"/>
          <a:stretch/>
        </p:blipFill>
        <p:spPr>
          <a:xfrm>
            <a:off x="4840200" y="3436920"/>
            <a:ext cx="943200" cy="942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:\Users\Lee\Desktop\Pearson\July\July9\sys9\images\image6.jpg"/>
          <p:cNvPicPr/>
          <p:nvPr/>
        </p:nvPicPr>
        <p:blipFill>
          <a:blip r:embed="rId2"/>
          <a:stretch/>
        </p:blipFill>
        <p:spPr>
          <a:xfrm>
            <a:off x="6249960" y="1743120"/>
            <a:ext cx="2390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597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ntistatic mats slow the flow of static electricity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4410000"/>
            <a:ext cx="8382240" cy="19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ntistatic mats use electrical resistance to slow the flow of static electricity across the surface of the mat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Be sure the mat is grounded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Use antistatic spray on the floor around the work area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844560" y="3336840"/>
            <a:ext cx="35244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ree-layered antistatic mats reduce ESD.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Picture 9" descr="C:\Users\Lee\Desktop\Pearson\July\July9\sys9\images\image7.jpg"/>
          <p:cNvPicPr/>
          <p:nvPr/>
        </p:nvPicPr>
        <p:blipFill>
          <a:blip r:embed="rId1"/>
          <a:stretch/>
        </p:blipFill>
        <p:spPr>
          <a:xfrm>
            <a:off x="1143000" y="1515960"/>
            <a:ext cx="3200400" cy="1505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C:\Users\Lee\Desktop\Pearson\July\July9\sys9\images\image8.jpg"/>
          <p:cNvPicPr/>
          <p:nvPr/>
        </p:nvPicPr>
        <p:blipFill>
          <a:blip r:embed="rId2"/>
          <a:stretch/>
        </p:blipFill>
        <p:spPr>
          <a:xfrm>
            <a:off x="5119560" y="1573200"/>
            <a:ext cx="32576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1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RT monitors can be dangerous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78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414"/>
              </a:spcAft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ver open a monitor while wearing a grounding wrist strap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414"/>
              </a:spcAft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 CRT will implode if broken.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414"/>
              </a:spcAft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If a monitor needs to be repaired: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374"/>
              </a:spcAft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Replace it.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374"/>
              </a:spcAft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Hire an experienced monitor repair technician.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398920" y="3649680"/>
            <a:ext cx="33102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 CRT stores electricity (up to 30,000 volts) even when unplugged.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9" name="Picture 0" descr="C:\Users\Lee\Desktop\Pearson\July\July9\sys9\images\image9.jpg"/>
          <p:cNvPicPr/>
          <p:nvPr/>
        </p:nvPicPr>
        <p:blipFill>
          <a:blip r:embed="rId1"/>
          <a:stretch/>
        </p:blipFill>
        <p:spPr>
          <a:xfrm>
            <a:off x="6067440" y="1504800"/>
            <a:ext cx="19717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ower supplies retain a dangerous charg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1" name="Rectangle 47"/>
          <p:cNvSpPr/>
          <p:nvPr/>
        </p:nvSpPr>
        <p:spPr>
          <a:xfrm>
            <a:off x="380880" y="1619280"/>
            <a:ext cx="4380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e power supply is extremely dangerous.</a:t>
            </a:r>
            <a:endParaRPr b="0" i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ven when unplugged, the capacitor retains a potentially lethal electrical charge.</a:t>
            </a:r>
            <a:endParaRPr b="0" i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 power supply is an FRU:</a:t>
            </a:r>
            <a:endParaRPr b="0" i="1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24"/>
              </a:spcAft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  <a:ea typeface="ＭＳ Ｐゴシック"/>
              </a:rPr>
              <a:t>There are no serviceable parts inside. 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24"/>
              </a:spcAft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  <a:ea typeface="ＭＳ Ｐゴシック"/>
              </a:rPr>
              <a:t>Replace a failed unit with a new one.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Text Box 51"/>
          <p:cNvSpPr/>
          <p:nvPr/>
        </p:nvSpPr>
        <p:spPr>
          <a:xfrm>
            <a:off x="152280" y="55627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3" name="Picture 0" descr="C:\Users\Lee\Desktop\Pearson\July\July9\sys9\images\image10.jpg"/>
          <p:cNvPicPr/>
          <p:nvPr/>
        </p:nvPicPr>
        <p:blipFill>
          <a:blip r:embed="rId1"/>
          <a:stretch/>
        </p:blipFill>
        <p:spPr>
          <a:xfrm>
            <a:off x="5670720" y="1766880"/>
            <a:ext cx="2504880" cy="219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" descr="C:\Users\Lee\Desktop\Pearson\July\July9\sys9\images\image11.jpg"/>
          <p:cNvPicPr/>
          <p:nvPr/>
        </p:nvPicPr>
        <p:blipFill>
          <a:blip r:embed="rId2"/>
          <a:stretch/>
        </p:blipFill>
        <p:spPr>
          <a:xfrm>
            <a:off x="5573880" y="4341960"/>
            <a:ext cx="2552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7:08:03Z</dcterms:created>
  <dc:creator>arothstein</dc:creator>
  <dc:description/>
  <dc:language>en-US</dc:language>
  <cp:lastModifiedBy>cynth</cp:lastModifiedBy>
  <dcterms:modified xsi:type="dcterms:W3CDTF">2011-04-27T17:26:25Z</dcterms:modified>
  <cp:revision>448</cp:revision>
  <dc:subject/>
  <dc:title>Slide 1</dc:title>
</cp:coreProperties>
</file>